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8040-10A0-4A11-A16F-0B7D7FA5E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5351-AE59-4909-A80D-563527A3E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A22A-7FFC-4A93-B541-E6B387861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DC7C-E885-4D3E-AB70-B9F81E580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D30C-8D80-4B74-87ED-EF303BF39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F308-BE58-41CA-814D-64A276FD6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6285-A4E5-4DEE-B4FF-939C3A30A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B6E8-7D6F-465F-AEC4-9E6DBF23B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56BB-2D4F-4E19-AED2-FB47E2766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DDB8-5C96-47B5-B6B0-AE388526F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ECFA-20D3-48BB-A319-60617D0DF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0098-70B6-4612-B417-6B1470B40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916D-5828-4815-AFF5-F42DB85DA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D7EA-B383-48F7-B14A-40B550DDF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6E03-C962-4FE8-9D1B-D45EC5DB8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9BF3-7DB8-4CF0-BE48-78F31AE8B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90C6-85AE-4329-945D-59DF030CF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25E7-5AC5-4086-AAA8-C8CBD2D08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D734-49EB-4B45-85A9-21987E22B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C1C5-AE43-4896-92EA-08523B32B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2BEE-300B-4A3B-A506-D607C81F1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1C27-93F4-43F6-A561-4ECD215F7E2C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" name=""/>
          <p:cNvSpPr/>
          <p:nvPr/>
        </p:nvSpPr>
        <p:spPr>
          <a:xfrm>
            <a:off x="1297440" y="654696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CG Omega"/>
              </a:rPr>
              <a:t>- Confidential -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5621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9625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Positioning, Content, Competitive Advantage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[Confidential]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27-Octo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18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18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19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19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19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0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7318-5EB6-47CE-9D37-C8BB8EF28EB0}" type="slidenum">
              <a:t>10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214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(other)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754E-49A1-47DF-9AFB-09874A5F65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219320"/>
            <a:ext cx="7467480" cy="5562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4108320" y="1720800"/>
            <a:ext cx="465480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* Reaction Display</a:t>
            </a:r>
            <a:br>
              <a:rPr sz="2500"/>
            </a:b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 for patents published December 2003 -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1144440" y="273060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984480" y="5454720"/>
            <a:ext cx="4365360" cy="783000"/>
            <a:chOff x="3984480" y="5454720"/>
            <a:chExt cx="4365360" cy="783000"/>
          </a:xfrm>
        </p:grpSpPr>
        <p:sp>
          <p:nvSpPr>
            <p:cNvPr id="222" name=""/>
            <p:cNvSpPr/>
            <p:nvPr/>
          </p:nvSpPr>
          <p:spPr>
            <a:xfrm>
              <a:off x="5134680" y="545472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984480" y="559908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44440" y="551340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5" name=""/>
          <p:cNvSpPr/>
          <p:nvPr/>
        </p:nvSpPr>
        <p:spPr>
          <a:xfrm>
            <a:off x="1052280" y="53352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7062-B846-46E0-A1D6-FD4FDBC4F8AC}" type="slidenum">
              <a:t>12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7" name=""/>
          <p:cNvSpPr/>
          <p:nvPr/>
        </p:nvSpPr>
        <p:spPr>
          <a:xfrm>
            <a:off x="665280" y="1565280"/>
            <a:ext cx="82501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1375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2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1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Numerical bioactivity data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8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Indexing of compounds not covered elsewhere:</a:t>
            </a:r>
            <a:br>
              <a:rPr sz="2200"/>
            </a:b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Indexing of Prophetic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20-25 % more compounds than in other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1FB1E-75C3-4AEE-B30C-A4ED42B0EFBA}" type="slidenum">
              <a:t>13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229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230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231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232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236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239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05ED-DF99-470B-A1B4-056933623750}" type="slidenum">
              <a:t>14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245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247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091160" y="496800"/>
            <a:ext cx="563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4849920" y="6485040"/>
            <a:ext cx="408600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871DD-CF70-4FF9-BA46-6EA706B2BD2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886760" y="268200"/>
            <a:ext cx="5425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spcAft>
                <a:spcPts val="181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55 Roman"/>
                <a:ea typeface="Times New Roman"/>
              </a:rPr>
              <a:t>EASY-TO-USE EXPORT-WIZARD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3" name=""/>
          <p:cNvSpPr/>
          <p:nvPr/>
        </p:nvSpPr>
        <p:spPr>
          <a:xfrm>
            <a:off x="960120" y="496800"/>
            <a:ext cx="8139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ort to Structure-Activity-Table (SAR)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8DDC-DAE1-4183-8162-55011560F39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802800" y="6019920"/>
            <a:ext cx="8259480" cy="764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is a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CG Omega"/>
              </a:rPr>
              <a:t>substance profile</a:t>
            </a: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 accumulating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multiple properties and reactions (from different patent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9AFB-A637-469A-9B18-79AB99DF7E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1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CrossFire format 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iscoveryGate implement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atabaseBrowser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ompound Index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Semi-automatically indexed patents with frontpage, claims, many reactions and physical data already 2 weeks after public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incl. Markush structures/reactions and bioactivity data a few weeks lat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trong Yearly Growth anticipated:</a:t>
            </a:r>
            <a:br>
              <a:rPr sz="1900"/>
            </a:b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compound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patent citation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63DD-22B0-40D4-8EBE-8E99801E69DA}" type="slidenum">
              <a:t>18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4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67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269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271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8026-5173-4928-9BFA-605A18F03896}" type="slidenum">
              <a:t>19</a:t>
            </a:fld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86000" y="1868400"/>
            <a:ext cx="78278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Integrated with other data sources on DiscoveryGate soon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(mid 2005)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7" name=""/>
          <p:cNvSpPr/>
          <p:nvPr/>
        </p:nvSpPr>
        <p:spPr>
          <a:xfrm>
            <a:off x="1258560" y="1233360"/>
            <a:ext cx="2361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4ED7-4F5C-422C-BD48-CF05D8BCBD0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146C-1E97-4531-912B-EB979606CD8C}" type="slidenum">
              <a:t>20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with frontpage, claim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compounds, reactions and phys. data already 2 weeks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fter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incl. Markush structures, Markush reactions and bioactivity data a few weeks l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 (soo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Reaction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arch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ophisticat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98D4-3A07-470C-AA74-B02FFF25DB14}" type="slidenum">
              <a:t>21</a:t>
            </a:fld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15289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407160" indent="-407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42760" indent="-33300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3FF2-DB21-4383-9216-C313BF0C31ED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s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2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2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2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F8BC-FAAD-4014-8FC6-F3E7495722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9" name=""/>
          <p:cNvSpPr/>
          <p:nvPr/>
        </p:nvSpPr>
        <p:spPr>
          <a:xfrm>
            <a:off x="1386000" y="1441440"/>
            <a:ext cx="781344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Main Markush structures 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d main Markush Reactions*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Defined 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compounds related to Markush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asy relevance check without time consuming access to original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3F89-2974-4003-B95A-151B0ADFAF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0" name=""/>
          <p:cNvSpPr/>
          <p:nvPr/>
        </p:nvSpPr>
        <p:spPr>
          <a:xfrm>
            <a:off x="7473240" y="5346720"/>
            <a:ext cx="130500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3" name=""/>
          <p:cNvSpPr/>
          <p:nvPr/>
        </p:nvSpPr>
        <p:spPr>
          <a:xfrm>
            <a:off x="2725560" y="640080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5DBD-F091-4ABB-A7A4-C43A0E422842}" type="slidenum">
              <a:t>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15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16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4" name=""/>
          <p:cNvSpPr/>
          <p:nvPr/>
        </p:nvSpPr>
        <p:spPr>
          <a:xfrm>
            <a:off x="847080" y="496800"/>
            <a:ext cx="8434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5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BA6B4-0505-4AAD-B2AA-99E85B0FF7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16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17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86320" y="228600"/>
            <a:ext cx="8403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6661-B947-490C-80FA-7D6B03DCCA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0" name=""/>
          <p:cNvSpPr/>
          <p:nvPr/>
        </p:nvSpPr>
        <p:spPr>
          <a:xfrm>
            <a:off x="1386000" y="1295280"/>
            <a:ext cx="7813440" cy="63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62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Link to Similar Reactions in all other MDL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808080"/>
              </a:buClr>
              <a:buFont typeface="CG Omega"/>
              <a:buChar char="•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99cc00"/>
              </a:buClr>
              <a:buFont typeface="Wingdings" charset="2"/>
              <a:buChar char="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186B-3ABF-4D9B-A4CF-2CCCB1D42EB0}" type="slidenum">
              <a:t>9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0-28T10:33:45Z</dcterms:modified>
  <cp:revision>269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